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8D6A-E557-448F-B2A5-A0E5FF9CB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8D5A-658D-4B3B-9C40-D715EDA9D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B582-D914-4B13-ACCF-4A8B7AA94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BE63-6030-4644-8ABF-06B300BED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E0132-4FB5-4D17-80FB-CC89CDFA5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1644E-32FC-4A7A-9697-99C9FC184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3013F-146A-4C22-96B6-7984BD9AA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FA201-512F-4665-A126-AD136C8C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B4261-B6FB-4153-B77C-D479F6552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B5AB2-C6AD-415B-BFA0-B96FBCD9E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2E4AE-BF06-4D3B-A3D9-DD137867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44BC-9D68-4429-BD38-866157EE0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C77A6-0292-4659-9186-FDDCE4F4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12414-6D60-4A87-AFFB-7ED1ED65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71334-40CA-488C-921E-348AC1324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937C4-7477-4752-83C8-B00E28516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DBADB-D729-4E6B-8846-E71736F42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9C81-86FD-462A-B1DC-B53E1A03B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ED84-BCBF-4586-84F2-5A44C7438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EBE5-3898-4B85-8E3F-7F856C4B9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FEA4-1567-4D29-AC8C-3B984C7F4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2074-FAFD-452A-A6F2-46AEBB33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4E49-76D2-45D5-91AD-3A698C90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33B1-D032-4CDB-95F8-7F370949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D8E5A-1BE4-4D60-8C19-A3C74455CC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B5644-6B74-4FE1-874E-FD798A745D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6" descr=""/>
          <p:cNvPicPr/>
          <p:nvPr/>
        </p:nvPicPr>
        <p:blipFill>
          <a:blip r:embed="rId1"/>
          <a:stretch/>
        </p:blipFill>
        <p:spPr>
          <a:xfrm>
            <a:off x="6172200" y="228600"/>
            <a:ext cx="2646360" cy="4986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1219320" y="6400800"/>
            <a:ext cx="702288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By Liz LaRosa </a:t>
            </a:r>
            <a:r>
              <a:rPr b="1" i="1" lang="en-US" sz="1300" spc="-1" strike="noStrike" u="sng">
                <a:solidFill>
                  <a:srgbClr val="009999"/>
                </a:solidFill>
                <a:uFillTx/>
                <a:latin typeface="Arial"/>
              </a:rPr>
              <a:t>http://www.middleschoolscience.com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1" i="1" lang="en-US" sz="1300" spc="-1" strike="noStrike" u="sng">
                <a:solidFill>
                  <a:srgbClr val="009999"/>
                </a:solidFill>
                <a:uFillTx/>
                <a:latin typeface="Arial"/>
              </a:rPr>
              <a:t>http://sciencespot.net/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 2008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Box 20"/>
          <p:cNvSpPr/>
          <p:nvPr/>
        </p:nvSpPr>
        <p:spPr>
          <a:xfrm rot="20817600">
            <a:off x="301680" y="1290600"/>
            <a:ext cx="7925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Snap ITC"/>
              </a:rPr>
              <a:t>Chemistry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Box 22"/>
          <p:cNvSpPr/>
          <p:nvPr/>
        </p:nvSpPr>
        <p:spPr>
          <a:xfrm>
            <a:off x="1143000" y="50688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Snap ITC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Snap ITC"/>
              </a:rPr>
              <a:t>Challenge #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1143000" y="4038480"/>
            <a:ext cx="693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Snap ITC"/>
              </a:rPr>
              <a:t>Acids &amp; Base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7" descr="C:\Documents and Settings\Liz\Local Settings\Temporary Internet Files\Content.IE5\EEEZ3B4P\MCj03663640000[1].wmf"/>
          <p:cNvPicPr/>
          <p:nvPr/>
        </p:nvPicPr>
        <p:blipFill>
          <a:blip r:embed="rId2"/>
          <a:stretch/>
        </p:blipFill>
        <p:spPr>
          <a:xfrm>
            <a:off x="6858000" y="2362320"/>
            <a:ext cx="216540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10"/>
          <p:cNvSpPr/>
          <p:nvPr/>
        </p:nvSpPr>
        <p:spPr>
          <a:xfrm>
            <a:off x="609480" y="15228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cid or Base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assify the following pH values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Box 12"/>
          <p:cNvSpPr/>
          <p:nvPr/>
        </p:nvSpPr>
        <p:spPr>
          <a:xfrm>
            <a:off x="838080" y="1981080"/>
            <a:ext cx="3200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H = 2.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H = 6.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H = 8.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H = 11.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H = 13.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H = 4.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10"/>
          <p:cNvSpPr/>
          <p:nvPr/>
        </p:nvSpPr>
        <p:spPr>
          <a:xfrm>
            <a:off x="609480" y="15228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cid or Base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assify the following pH values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Box 12"/>
          <p:cNvSpPr/>
          <p:nvPr/>
        </p:nvSpPr>
        <p:spPr>
          <a:xfrm>
            <a:off x="838080" y="1981080"/>
            <a:ext cx="3200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H = 2.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H = 6.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H = 8.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H = 11.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H = 13.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H = 4.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4038480" y="1981080"/>
            <a:ext cx="2819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ci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ci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buClr>
                <a:srgbClr val="0070c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Arial"/>
              </a:rPr>
              <a:t>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buClr>
                <a:srgbClr val="0070c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Arial"/>
              </a:rPr>
              <a:t>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buClr>
                <a:srgbClr val="0070c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Arial"/>
              </a:rPr>
              <a:t>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ci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8T14:12:40Z</dcterms:created>
  <dc:creator>Liz</dc:creator>
  <dc:description/>
  <dc:language>en-US</dc:language>
  <cp:lastModifiedBy>PritchaJ</cp:lastModifiedBy>
  <dcterms:modified xsi:type="dcterms:W3CDTF">2011-06-01T13:38:46Z</dcterms:modified>
  <cp:revision>55</cp:revision>
  <dc:subject/>
  <dc:title>Slide 1</dc:title>
</cp:coreProperties>
</file>